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4B7-1249-45F1-9C69-65ED49C1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D11-4063-4764-9D6D-785125C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25C-41F6-42A8-9907-474E7DF2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324-5819-4A72-8052-AF86ED37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4C9-4B5A-4376-B16E-11F2D62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CD8-F9D1-4A37-AEFA-1D4E555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D55-FC91-43F3-B571-7384EC54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C41-A4AE-4480-BFC1-54855A5F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9F3-17ED-4B9B-9FFC-DE94A312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325-1147-4BD1-B925-5B89CF9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016-C3BF-4FDC-B5D9-25469C1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F32-C714-4776-AD63-06A8C7B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7434-F737-4E04-82FF-D5F9C177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3623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42670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75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4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86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"/>
          <p:cNvSpPr txBox="1"/>
          <p:nvPr/>
        </p:nvSpPr>
        <p:spPr>
          <a:xfrm>
            <a:off x="1447920" y="685800"/>
            <a:ext cx="1361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CS Taybah S_U normal."/>
              </a:rPr>
              <a:t>9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CS Taybah S_U normal."/>
              <a:ea typeface="MCS Taybah S_U normal.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أحذر أن تكون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رقماً والأخير حقيقة وواق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5812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DecoType Naskh Extensions"/>
              </a:rPr>
              <a:t>" يحتاج إليك الكل ولا تحتاج إليهم فالكل يسألك 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3680" y="76212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أقم علاقات صادقة مع الجمي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خرجوا عن الصراط ويحتاج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لى من يعيدهم إلىالط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قويم مجدداً أكثر من حاجت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لعقاب والمحاك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42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ا تتردد في تفويض العمل ما أمكنك ذل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عناصر الأس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4591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35320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درة على التحف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1496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334120"/>
            <a:ext cx="22096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نفو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هزي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51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60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70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تهتم إن قال الناس بأن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جنون بشرط أن تك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ادقاً مع نفسك أول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الدرب الصحيح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خضع جسدك لعق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وأخضع عقلك لروح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خش المخاطر المعقولــــ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ع العجلة والعادات المقـــي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17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إذا كنت مضطرباً أجلس وفكر لأ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تذكر بأن الخوف يحول القوة ضعف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80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5800" y="38322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: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ا من إمكانية موجودة في إنسان ما غير موجودة فينا جميعاً فالقوة كامنة  لدى كل شخص وبحاجة إلى تحفيز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Monotype Koufi"/>
              </a:rPr>
              <a:t>.</a:t>
            </a:r>
            <a:r>
              <a:rPr b="1" lang="hi-IN" sz="4000" spc="-1" strike="noStrike">
                <a:solidFill>
                  <a:srgbClr val="003399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7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8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9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0" name=""/>
          <p:cNvSpPr txBox="1"/>
          <p:nvPr/>
        </p:nvSpPr>
        <p:spPr>
          <a:xfrm rot="20487600">
            <a:off x="3885840" y="46479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00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10120" y="76212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الوراثة لا تحدد موقعك في 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029200"/>
            <a:ext cx="2438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5867280"/>
            <a:ext cx="1752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22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25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278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إرادة الجيدة         " لتحقيق الرغبة في أداء الأشياء الصحيحة فقط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46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799160" y="239760"/>
            <a:ext cx="3985920" cy="3951360"/>
            <a:chOff x="4799160" y="239760"/>
            <a:chExt cx="3985920" cy="3951360"/>
          </a:xfrm>
        </p:grpSpPr>
        <p:sp>
          <p:nvSpPr>
            <p:cNvPr id="183" name=""/>
            <p:cNvSpPr/>
            <p:nvPr/>
          </p:nvSpPr>
          <p:spPr>
            <a:xfrm>
              <a:off x="5981760" y="1501920"/>
              <a:ext cx="2773440" cy="2654280"/>
            </a:xfrm>
            <a:custGeom>
              <a:avLst/>
              <a:gdLst/>
              <a:ahLst/>
              <a:rect l="l" t="t" r="r" b="b"/>
              <a:pathLst>
                <a:path w="1747" h="1672">
                  <a:moveTo>
                    <a:pt x="46" y="256"/>
                  </a:moveTo>
                  <a:lnTo>
                    <a:pt x="268" y="147"/>
                  </a:lnTo>
                  <a:lnTo>
                    <a:pt x="411" y="91"/>
                  </a:lnTo>
                  <a:lnTo>
                    <a:pt x="543" y="49"/>
                  </a:lnTo>
                  <a:lnTo>
                    <a:pt x="652" y="0"/>
                  </a:lnTo>
                  <a:lnTo>
                    <a:pt x="689" y="8"/>
                  </a:lnTo>
                  <a:lnTo>
                    <a:pt x="808" y="98"/>
                  </a:lnTo>
                  <a:lnTo>
                    <a:pt x="1000" y="226"/>
                  </a:lnTo>
                  <a:lnTo>
                    <a:pt x="1143" y="316"/>
                  </a:lnTo>
                  <a:lnTo>
                    <a:pt x="1294" y="384"/>
                  </a:lnTo>
                  <a:lnTo>
                    <a:pt x="1520" y="490"/>
                  </a:lnTo>
                  <a:lnTo>
                    <a:pt x="1747" y="595"/>
                  </a:lnTo>
                  <a:lnTo>
                    <a:pt x="1736" y="599"/>
                  </a:lnTo>
                  <a:lnTo>
                    <a:pt x="1728" y="644"/>
                  </a:lnTo>
                  <a:lnTo>
                    <a:pt x="1706" y="717"/>
                  </a:lnTo>
                  <a:lnTo>
                    <a:pt x="1691" y="1033"/>
                  </a:lnTo>
                  <a:lnTo>
                    <a:pt x="1702" y="1154"/>
                  </a:lnTo>
                  <a:lnTo>
                    <a:pt x="1706" y="1316"/>
                  </a:lnTo>
                  <a:lnTo>
                    <a:pt x="1695" y="1372"/>
                  </a:lnTo>
                  <a:lnTo>
                    <a:pt x="1595" y="1417"/>
                  </a:lnTo>
                  <a:lnTo>
                    <a:pt x="1459" y="1455"/>
                  </a:lnTo>
                  <a:lnTo>
                    <a:pt x="1305" y="1500"/>
                  </a:lnTo>
                  <a:lnTo>
                    <a:pt x="1120" y="1600"/>
                  </a:lnTo>
                  <a:lnTo>
                    <a:pt x="1004" y="1672"/>
                  </a:lnTo>
                  <a:lnTo>
                    <a:pt x="970" y="1638"/>
                  </a:lnTo>
                  <a:lnTo>
                    <a:pt x="857" y="1544"/>
                  </a:lnTo>
                  <a:lnTo>
                    <a:pt x="693" y="1414"/>
                  </a:lnTo>
                  <a:lnTo>
                    <a:pt x="509" y="1289"/>
                  </a:lnTo>
                  <a:lnTo>
                    <a:pt x="332" y="1165"/>
                  </a:lnTo>
                  <a:lnTo>
                    <a:pt x="241" y="1094"/>
                  </a:lnTo>
                  <a:lnTo>
                    <a:pt x="76" y="977"/>
                  </a:lnTo>
                  <a:lnTo>
                    <a:pt x="0" y="913"/>
                  </a:lnTo>
                  <a:lnTo>
                    <a:pt x="16" y="666"/>
                  </a:lnTo>
                  <a:lnTo>
                    <a:pt x="19" y="448"/>
                  </a:lnTo>
                  <a:lnTo>
                    <a:pt x="27" y="373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1640" y="2212920"/>
              <a:ext cx="1257480" cy="792360"/>
            </a:xfrm>
            <a:custGeom>
              <a:avLst/>
              <a:gdLst/>
              <a:ahLst/>
              <a:rect l="l" t="t" r="r" b="b"/>
              <a:pathLst>
                <a:path w="792" h="499">
                  <a:moveTo>
                    <a:pt x="0" y="0"/>
                  </a:moveTo>
                  <a:lnTo>
                    <a:pt x="158" y="91"/>
                  </a:lnTo>
                  <a:lnTo>
                    <a:pt x="299" y="179"/>
                  </a:lnTo>
                  <a:lnTo>
                    <a:pt x="483" y="288"/>
                  </a:lnTo>
                  <a:lnTo>
                    <a:pt x="679" y="401"/>
                  </a:lnTo>
                  <a:lnTo>
                    <a:pt x="792" y="473"/>
                  </a:lnTo>
                  <a:lnTo>
                    <a:pt x="781" y="499"/>
                  </a:lnTo>
                  <a:lnTo>
                    <a:pt x="751" y="495"/>
                  </a:lnTo>
                  <a:lnTo>
                    <a:pt x="630" y="409"/>
                  </a:lnTo>
                  <a:lnTo>
                    <a:pt x="438" y="299"/>
                  </a:lnTo>
                  <a:lnTo>
                    <a:pt x="241" y="171"/>
                  </a:lnTo>
                  <a:lnTo>
                    <a:pt x="67" y="64"/>
                  </a:lnTo>
                  <a:lnTo>
                    <a:pt x="5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2575080"/>
              <a:ext cx="938520" cy="365040"/>
            </a:xfrm>
            <a:custGeom>
              <a:avLst/>
              <a:gdLst/>
              <a:ahLst/>
              <a:rect l="l" t="t" r="r" b="b"/>
              <a:pathLst>
                <a:path w="591" h="230">
                  <a:moveTo>
                    <a:pt x="7" y="196"/>
                  </a:moveTo>
                  <a:lnTo>
                    <a:pt x="237" y="113"/>
                  </a:lnTo>
                  <a:lnTo>
                    <a:pt x="421" y="49"/>
                  </a:lnTo>
                  <a:lnTo>
                    <a:pt x="591" y="0"/>
                  </a:lnTo>
                  <a:lnTo>
                    <a:pt x="583" y="22"/>
                  </a:lnTo>
                  <a:lnTo>
                    <a:pt x="497" y="60"/>
                  </a:lnTo>
                  <a:lnTo>
                    <a:pt x="482" y="56"/>
                  </a:lnTo>
                  <a:lnTo>
                    <a:pt x="218" y="150"/>
                  </a:lnTo>
                  <a:lnTo>
                    <a:pt x="207" y="150"/>
                  </a:lnTo>
                  <a:lnTo>
                    <a:pt x="22" y="230"/>
                  </a:lnTo>
                  <a:lnTo>
                    <a:pt x="0" y="21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01120" y="308916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0"/>
                  </a:moveTo>
                  <a:lnTo>
                    <a:pt x="90" y="69"/>
                  </a:lnTo>
                  <a:lnTo>
                    <a:pt x="177" y="163"/>
                  </a:lnTo>
                  <a:lnTo>
                    <a:pt x="211" y="201"/>
                  </a:lnTo>
                  <a:lnTo>
                    <a:pt x="196" y="224"/>
                  </a:lnTo>
                  <a:lnTo>
                    <a:pt x="105" y="137"/>
                  </a:lnTo>
                  <a:lnTo>
                    <a:pt x="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9840" y="2867040"/>
              <a:ext cx="298440" cy="574560"/>
            </a:xfrm>
            <a:custGeom>
              <a:avLst/>
              <a:gdLst/>
              <a:ahLst/>
              <a:rect l="l" t="t" r="r" b="b"/>
              <a:pathLst>
                <a:path w="188" h="362">
                  <a:moveTo>
                    <a:pt x="64" y="200"/>
                  </a:moveTo>
                  <a:lnTo>
                    <a:pt x="11" y="283"/>
                  </a:lnTo>
                  <a:lnTo>
                    <a:pt x="0" y="271"/>
                  </a:lnTo>
                  <a:lnTo>
                    <a:pt x="7" y="237"/>
                  </a:lnTo>
                  <a:lnTo>
                    <a:pt x="60" y="155"/>
                  </a:lnTo>
                  <a:lnTo>
                    <a:pt x="120" y="79"/>
                  </a:lnTo>
                  <a:lnTo>
                    <a:pt x="173" y="0"/>
                  </a:lnTo>
                  <a:lnTo>
                    <a:pt x="181" y="23"/>
                  </a:lnTo>
                  <a:lnTo>
                    <a:pt x="139" y="94"/>
                  </a:lnTo>
                  <a:lnTo>
                    <a:pt x="83" y="170"/>
                  </a:lnTo>
                  <a:lnTo>
                    <a:pt x="128" y="230"/>
                  </a:lnTo>
                  <a:lnTo>
                    <a:pt x="169" y="301"/>
                  </a:lnTo>
                  <a:lnTo>
                    <a:pt x="188" y="362"/>
                  </a:lnTo>
                  <a:lnTo>
                    <a:pt x="132" y="286"/>
                  </a:lnTo>
                  <a:lnTo>
                    <a:pt x="90" y="222"/>
                  </a:lnTo>
                  <a:lnTo>
                    <a:pt x="64" y="20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7000" y="3354480"/>
              <a:ext cx="20988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16" y="0"/>
                  </a:moveTo>
                  <a:lnTo>
                    <a:pt x="132" y="19"/>
                  </a:lnTo>
                  <a:lnTo>
                    <a:pt x="64" y="166"/>
                  </a:lnTo>
                  <a:lnTo>
                    <a:pt x="19" y="301"/>
                  </a:lnTo>
                  <a:lnTo>
                    <a:pt x="0" y="301"/>
                  </a:lnTo>
                  <a:lnTo>
                    <a:pt x="0" y="279"/>
                  </a:lnTo>
                  <a:lnTo>
                    <a:pt x="45" y="151"/>
                  </a:lnTo>
                  <a:lnTo>
                    <a:pt x="98" y="4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440" y="3089160"/>
              <a:ext cx="88920" cy="863640"/>
            </a:xfrm>
            <a:custGeom>
              <a:avLst/>
              <a:gdLst/>
              <a:ahLst/>
              <a:rect l="l" t="t" r="r" b="b"/>
              <a:pathLst>
                <a:path w="56" h="544">
                  <a:moveTo>
                    <a:pt x="41" y="0"/>
                  </a:moveTo>
                  <a:lnTo>
                    <a:pt x="56" y="11"/>
                  </a:lnTo>
                  <a:lnTo>
                    <a:pt x="41" y="124"/>
                  </a:lnTo>
                  <a:lnTo>
                    <a:pt x="41" y="135"/>
                  </a:lnTo>
                  <a:lnTo>
                    <a:pt x="30" y="337"/>
                  </a:lnTo>
                  <a:lnTo>
                    <a:pt x="33" y="525"/>
                  </a:lnTo>
                  <a:lnTo>
                    <a:pt x="22" y="544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11" y="205"/>
                  </a:lnTo>
                  <a:lnTo>
                    <a:pt x="22" y="4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8000" y="1467000"/>
              <a:ext cx="2827080" cy="2724120"/>
            </a:xfrm>
            <a:custGeom>
              <a:avLst/>
              <a:gdLst/>
              <a:ahLst/>
              <a:rect l="l" t="t" r="r" b="b"/>
              <a:pathLst>
                <a:path w="1781" h="1716">
                  <a:moveTo>
                    <a:pt x="38" y="369"/>
                  </a:moveTo>
                  <a:lnTo>
                    <a:pt x="53" y="380"/>
                  </a:lnTo>
                  <a:lnTo>
                    <a:pt x="46" y="666"/>
                  </a:lnTo>
                  <a:lnTo>
                    <a:pt x="42" y="677"/>
                  </a:lnTo>
                  <a:lnTo>
                    <a:pt x="53" y="943"/>
                  </a:lnTo>
                  <a:lnTo>
                    <a:pt x="83" y="973"/>
                  </a:lnTo>
                  <a:lnTo>
                    <a:pt x="189" y="1059"/>
                  </a:lnTo>
                  <a:lnTo>
                    <a:pt x="313" y="1135"/>
                  </a:lnTo>
                  <a:lnTo>
                    <a:pt x="392" y="1199"/>
                  </a:lnTo>
                  <a:lnTo>
                    <a:pt x="511" y="1289"/>
                  </a:lnTo>
                  <a:lnTo>
                    <a:pt x="623" y="1368"/>
                  </a:lnTo>
                  <a:lnTo>
                    <a:pt x="789" y="1477"/>
                  </a:lnTo>
                  <a:lnTo>
                    <a:pt x="928" y="1577"/>
                  </a:lnTo>
                  <a:lnTo>
                    <a:pt x="989" y="1637"/>
                  </a:lnTo>
                  <a:lnTo>
                    <a:pt x="1019" y="1663"/>
                  </a:lnTo>
                  <a:lnTo>
                    <a:pt x="1053" y="1660"/>
                  </a:lnTo>
                  <a:lnTo>
                    <a:pt x="1132" y="1611"/>
                  </a:lnTo>
                  <a:lnTo>
                    <a:pt x="1256" y="1545"/>
                  </a:lnTo>
                  <a:lnTo>
                    <a:pt x="1337" y="1496"/>
                  </a:lnTo>
                  <a:lnTo>
                    <a:pt x="1408" y="1473"/>
                  </a:lnTo>
                  <a:lnTo>
                    <a:pt x="1510" y="1455"/>
                  </a:lnTo>
                  <a:lnTo>
                    <a:pt x="1567" y="1436"/>
                  </a:lnTo>
                  <a:lnTo>
                    <a:pt x="1653" y="1406"/>
                  </a:lnTo>
                  <a:lnTo>
                    <a:pt x="1698" y="1379"/>
                  </a:lnTo>
                  <a:lnTo>
                    <a:pt x="1713" y="1289"/>
                  </a:lnTo>
                  <a:lnTo>
                    <a:pt x="1706" y="1202"/>
                  </a:lnTo>
                  <a:lnTo>
                    <a:pt x="1695" y="1071"/>
                  </a:lnTo>
                  <a:lnTo>
                    <a:pt x="1695" y="943"/>
                  </a:lnTo>
                  <a:lnTo>
                    <a:pt x="1698" y="833"/>
                  </a:lnTo>
                  <a:lnTo>
                    <a:pt x="1698" y="736"/>
                  </a:lnTo>
                  <a:lnTo>
                    <a:pt x="1721" y="670"/>
                  </a:lnTo>
                  <a:lnTo>
                    <a:pt x="1721" y="628"/>
                  </a:lnTo>
                  <a:lnTo>
                    <a:pt x="1698" y="602"/>
                  </a:lnTo>
                  <a:lnTo>
                    <a:pt x="1294" y="425"/>
                  </a:lnTo>
                  <a:lnTo>
                    <a:pt x="1151" y="350"/>
                  </a:lnTo>
                  <a:lnTo>
                    <a:pt x="966" y="233"/>
                  </a:lnTo>
                  <a:lnTo>
                    <a:pt x="812" y="131"/>
                  </a:lnTo>
                  <a:lnTo>
                    <a:pt x="691" y="52"/>
                  </a:lnTo>
                  <a:lnTo>
                    <a:pt x="669" y="45"/>
                  </a:lnTo>
                  <a:lnTo>
                    <a:pt x="627" y="60"/>
                  </a:lnTo>
                  <a:lnTo>
                    <a:pt x="541" y="94"/>
                  </a:lnTo>
                  <a:lnTo>
                    <a:pt x="450" y="128"/>
                  </a:lnTo>
                  <a:lnTo>
                    <a:pt x="366" y="150"/>
                  </a:lnTo>
                  <a:lnTo>
                    <a:pt x="275" y="199"/>
                  </a:lnTo>
                  <a:lnTo>
                    <a:pt x="260" y="184"/>
                  </a:lnTo>
                  <a:lnTo>
                    <a:pt x="264" y="161"/>
                  </a:lnTo>
                  <a:lnTo>
                    <a:pt x="373" y="120"/>
                  </a:lnTo>
                  <a:lnTo>
                    <a:pt x="484" y="86"/>
                  </a:lnTo>
                  <a:lnTo>
                    <a:pt x="575" y="49"/>
                  </a:lnTo>
                  <a:lnTo>
                    <a:pt x="661" y="0"/>
                  </a:lnTo>
                  <a:lnTo>
                    <a:pt x="691" y="3"/>
                  </a:lnTo>
                  <a:lnTo>
                    <a:pt x="744" y="37"/>
                  </a:lnTo>
                  <a:lnTo>
                    <a:pt x="868" y="135"/>
                  </a:lnTo>
                  <a:lnTo>
                    <a:pt x="1007" y="222"/>
                  </a:lnTo>
                  <a:lnTo>
                    <a:pt x="1169" y="331"/>
                  </a:lnTo>
                  <a:lnTo>
                    <a:pt x="1309" y="399"/>
                  </a:lnTo>
                  <a:lnTo>
                    <a:pt x="1457" y="459"/>
                  </a:lnTo>
                  <a:lnTo>
                    <a:pt x="1631" y="538"/>
                  </a:lnTo>
                  <a:lnTo>
                    <a:pt x="1770" y="606"/>
                  </a:lnTo>
                  <a:lnTo>
                    <a:pt x="1781" y="628"/>
                  </a:lnTo>
                  <a:lnTo>
                    <a:pt x="1777" y="640"/>
                  </a:lnTo>
                  <a:lnTo>
                    <a:pt x="1743" y="720"/>
                  </a:lnTo>
                  <a:lnTo>
                    <a:pt x="1728" y="860"/>
                  </a:lnTo>
                  <a:lnTo>
                    <a:pt x="1721" y="1048"/>
                  </a:lnTo>
                  <a:lnTo>
                    <a:pt x="1743" y="1229"/>
                  </a:lnTo>
                  <a:lnTo>
                    <a:pt x="1740" y="1357"/>
                  </a:lnTo>
                  <a:lnTo>
                    <a:pt x="1732" y="1409"/>
                  </a:lnTo>
                  <a:lnTo>
                    <a:pt x="1717" y="1421"/>
                  </a:lnTo>
                  <a:lnTo>
                    <a:pt x="1615" y="1458"/>
                  </a:lnTo>
                  <a:lnTo>
                    <a:pt x="1487" y="1496"/>
                  </a:lnTo>
                  <a:lnTo>
                    <a:pt x="1359" y="1522"/>
                  </a:lnTo>
                  <a:lnTo>
                    <a:pt x="1271" y="1560"/>
                  </a:lnTo>
                  <a:lnTo>
                    <a:pt x="1135" y="1648"/>
                  </a:lnTo>
                  <a:lnTo>
                    <a:pt x="1041" y="1705"/>
                  </a:lnTo>
                  <a:lnTo>
                    <a:pt x="1007" y="1716"/>
                  </a:lnTo>
                  <a:lnTo>
                    <a:pt x="974" y="1686"/>
                  </a:lnTo>
                  <a:lnTo>
                    <a:pt x="910" y="1611"/>
                  </a:lnTo>
                  <a:lnTo>
                    <a:pt x="815" y="1530"/>
                  </a:lnTo>
                  <a:lnTo>
                    <a:pt x="699" y="1451"/>
                  </a:lnTo>
                  <a:lnTo>
                    <a:pt x="593" y="1387"/>
                  </a:lnTo>
                  <a:lnTo>
                    <a:pt x="492" y="1308"/>
                  </a:lnTo>
                  <a:lnTo>
                    <a:pt x="392" y="1236"/>
                  </a:lnTo>
                  <a:lnTo>
                    <a:pt x="313" y="1168"/>
                  </a:lnTo>
                  <a:lnTo>
                    <a:pt x="226" y="1116"/>
                  </a:lnTo>
                  <a:lnTo>
                    <a:pt x="106" y="1037"/>
                  </a:lnTo>
                  <a:lnTo>
                    <a:pt x="23" y="969"/>
                  </a:lnTo>
                  <a:lnTo>
                    <a:pt x="0" y="943"/>
                  </a:lnTo>
                  <a:lnTo>
                    <a:pt x="12" y="871"/>
                  </a:lnTo>
                  <a:lnTo>
                    <a:pt x="19" y="655"/>
                  </a:lnTo>
                  <a:lnTo>
                    <a:pt x="15" y="489"/>
                  </a:lnTo>
                  <a:lnTo>
                    <a:pt x="38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799160" y="239760"/>
              <a:ext cx="2211120" cy="1766160"/>
              <a:chOff x="4799160" y="239760"/>
              <a:chExt cx="2211120" cy="1766160"/>
            </a:xfrm>
          </p:grpSpPr>
          <p:sp>
            <p:nvSpPr>
              <p:cNvPr id="192" name=""/>
              <p:cNvSpPr/>
              <p:nvPr/>
            </p:nvSpPr>
            <p:spPr>
              <a:xfrm>
                <a:off x="5145120" y="436680"/>
                <a:ext cx="1667880" cy="1438920"/>
              </a:xfrm>
              <a:custGeom>
                <a:avLst/>
                <a:gdLst/>
                <a:ahLst/>
                <a:rect l="l" t="t" r="r" b="b"/>
                <a:pathLst>
                  <a:path w="1051" h="891">
                    <a:moveTo>
                      <a:pt x="985" y="710"/>
                    </a:moveTo>
                    <a:lnTo>
                      <a:pt x="804" y="584"/>
                    </a:lnTo>
                    <a:lnTo>
                      <a:pt x="638" y="471"/>
                    </a:lnTo>
                    <a:lnTo>
                      <a:pt x="512" y="371"/>
                    </a:lnTo>
                    <a:lnTo>
                      <a:pt x="341" y="213"/>
                    </a:lnTo>
                    <a:lnTo>
                      <a:pt x="198" y="89"/>
                    </a:lnTo>
                    <a:lnTo>
                      <a:pt x="87" y="0"/>
                    </a:lnTo>
                    <a:lnTo>
                      <a:pt x="93" y="109"/>
                    </a:lnTo>
                    <a:lnTo>
                      <a:pt x="61" y="147"/>
                    </a:lnTo>
                    <a:lnTo>
                      <a:pt x="0" y="196"/>
                    </a:lnTo>
                    <a:lnTo>
                      <a:pt x="93" y="262"/>
                    </a:lnTo>
                    <a:lnTo>
                      <a:pt x="174" y="311"/>
                    </a:lnTo>
                    <a:lnTo>
                      <a:pt x="273" y="420"/>
                    </a:lnTo>
                    <a:lnTo>
                      <a:pt x="396" y="520"/>
                    </a:lnTo>
                    <a:lnTo>
                      <a:pt x="533" y="621"/>
                    </a:lnTo>
                    <a:lnTo>
                      <a:pt x="640" y="700"/>
                    </a:lnTo>
                    <a:lnTo>
                      <a:pt x="753" y="770"/>
                    </a:lnTo>
                    <a:lnTo>
                      <a:pt x="913" y="872"/>
                    </a:lnTo>
                    <a:lnTo>
                      <a:pt x="958" y="891"/>
                    </a:lnTo>
                    <a:lnTo>
                      <a:pt x="958" y="817"/>
                    </a:lnTo>
                    <a:lnTo>
                      <a:pt x="1051" y="817"/>
                    </a:lnTo>
                    <a:lnTo>
                      <a:pt x="985" y="7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7320" y="1607760"/>
                <a:ext cx="304200" cy="354960"/>
              </a:xfrm>
              <a:custGeom>
                <a:avLst/>
                <a:gdLst/>
                <a:ahLst/>
                <a:rect l="l" t="t" r="r" b="b"/>
                <a:pathLst>
                  <a:path w="192" h="220">
                    <a:moveTo>
                      <a:pt x="192" y="207"/>
                    </a:moveTo>
                    <a:lnTo>
                      <a:pt x="45" y="0"/>
                    </a:lnTo>
                    <a:lnTo>
                      <a:pt x="39" y="56"/>
                    </a:lnTo>
                    <a:lnTo>
                      <a:pt x="3" y="83"/>
                    </a:lnTo>
                    <a:lnTo>
                      <a:pt x="0" y="162"/>
                    </a:lnTo>
                    <a:lnTo>
                      <a:pt x="167" y="220"/>
                    </a:lnTo>
                    <a:lnTo>
                      <a:pt x="192" y="20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273240"/>
                <a:ext cx="510840" cy="47628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224" y="295"/>
                    </a:moveTo>
                    <a:lnTo>
                      <a:pt x="298" y="254"/>
                    </a:lnTo>
                    <a:lnTo>
                      <a:pt x="320" y="209"/>
                    </a:lnTo>
                    <a:lnTo>
                      <a:pt x="322" y="116"/>
                    </a:lnTo>
                    <a:lnTo>
                      <a:pt x="185" y="17"/>
                    </a:lnTo>
                    <a:lnTo>
                      <a:pt x="108" y="0"/>
                    </a:lnTo>
                    <a:lnTo>
                      <a:pt x="47" y="35"/>
                    </a:lnTo>
                    <a:lnTo>
                      <a:pt x="0" y="107"/>
                    </a:lnTo>
                    <a:lnTo>
                      <a:pt x="0" y="165"/>
                    </a:lnTo>
                    <a:lnTo>
                      <a:pt x="12" y="210"/>
                    </a:lnTo>
                    <a:lnTo>
                      <a:pt x="106" y="250"/>
                    </a:lnTo>
                    <a:lnTo>
                      <a:pt x="224" y="29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799160" y="239760"/>
                <a:ext cx="2211120" cy="1766160"/>
                <a:chOff x="4799160" y="239760"/>
                <a:chExt cx="2211120" cy="1766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73680" y="263880"/>
                  <a:ext cx="1841040" cy="1333440"/>
                </a:xfrm>
                <a:custGeom>
                  <a:avLst/>
                  <a:gdLst/>
                  <a:ahLst/>
                  <a:rect l="l" t="t" r="r" b="b"/>
                  <a:pathLst>
                    <a:path w="1160" h="826">
                      <a:moveTo>
                        <a:pt x="1160" y="806"/>
                      </a:moveTo>
                      <a:lnTo>
                        <a:pt x="1154" y="826"/>
                      </a:lnTo>
                      <a:lnTo>
                        <a:pt x="1022" y="743"/>
                      </a:lnTo>
                      <a:lnTo>
                        <a:pt x="813" y="604"/>
                      </a:lnTo>
                      <a:lnTo>
                        <a:pt x="597" y="416"/>
                      </a:lnTo>
                      <a:lnTo>
                        <a:pt x="454" y="279"/>
                      </a:lnTo>
                      <a:lnTo>
                        <a:pt x="307" y="156"/>
                      </a:lnTo>
                      <a:lnTo>
                        <a:pt x="190" y="68"/>
                      </a:lnTo>
                      <a:lnTo>
                        <a:pt x="168" y="51"/>
                      </a:lnTo>
                      <a:lnTo>
                        <a:pt x="168" y="134"/>
                      </a:lnTo>
                      <a:lnTo>
                        <a:pt x="128" y="198"/>
                      </a:lnTo>
                      <a:lnTo>
                        <a:pt x="70" y="215"/>
                      </a:lnTo>
                      <a:lnTo>
                        <a:pt x="0" y="216"/>
                      </a:lnTo>
                      <a:lnTo>
                        <a:pt x="0" y="192"/>
                      </a:lnTo>
                      <a:lnTo>
                        <a:pt x="94" y="183"/>
                      </a:lnTo>
                      <a:lnTo>
                        <a:pt x="128" y="134"/>
                      </a:lnTo>
                      <a:lnTo>
                        <a:pt x="141" y="60"/>
                      </a:lnTo>
                      <a:lnTo>
                        <a:pt x="128" y="0"/>
                      </a:lnTo>
                      <a:lnTo>
                        <a:pt x="168" y="6"/>
                      </a:lnTo>
                      <a:lnTo>
                        <a:pt x="294" y="109"/>
                      </a:lnTo>
                      <a:lnTo>
                        <a:pt x="382" y="183"/>
                      </a:lnTo>
                      <a:lnTo>
                        <a:pt x="482" y="265"/>
                      </a:lnTo>
                      <a:lnTo>
                        <a:pt x="587" y="363"/>
                      </a:lnTo>
                      <a:lnTo>
                        <a:pt x="681" y="456"/>
                      </a:lnTo>
                      <a:lnTo>
                        <a:pt x="802" y="553"/>
                      </a:lnTo>
                      <a:lnTo>
                        <a:pt x="913" y="629"/>
                      </a:lnTo>
                      <a:lnTo>
                        <a:pt x="1045" y="723"/>
                      </a:lnTo>
                      <a:lnTo>
                        <a:pt x="1160" y="8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99160" y="239760"/>
                  <a:ext cx="2211120" cy="1766160"/>
                </a:xfrm>
                <a:custGeom>
                  <a:avLst/>
                  <a:gdLst/>
                  <a:ahLst/>
                  <a:rect l="l" t="t" r="r" b="b"/>
                  <a:pathLst>
                    <a:path w="1393" h="1094">
                      <a:moveTo>
                        <a:pt x="1154" y="984"/>
                      </a:moveTo>
                      <a:lnTo>
                        <a:pt x="932" y="851"/>
                      </a:lnTo>
                      <a:lnTo>
                        <a:pt x="670" y="664"/>
                      </a:lnTo>
                      <a:lnTo>
                        <a:pt x="512" y="535"/>
                      </a:lnTo>
                      <a:lnTo>
                        <a:pt x="410" y="435"/>
                      </a:lnTo>
                      <a:lnTo>
                        <a:pt x="275" y="329"/>
                      </a:lnTo>
                      <a:lnTo>
                        <a:pt x="124" y="254"/>
                      </a:lnTo>
                      <a:lnTo>
                        <a:pt x="51" y="222"/>
                      </a:lnTo>
                      <a:lnTo>
                        <a:pt x="30" y="196"/>
                      </a:lnTo>
                      <a:lnTo>
                        <a:pt x="24" y="166"/>
                      </a:lnTo>
                      <a:lnTo>
                        <a:pt x="40" y="100"/>
                      </a:lnTo>
                      <a:lnTo>
                        <a:pt x="68" y="79"/>
                      </a:lnTo>
                      <a:lnTo>
                        <a:pt x="92" y="49"/>
                      </a:lnTo>
                      <a:lnTo>
                        <a:pt x="156" y="41"/>
                      </a:lnTo>
                      <a:lnTo>
                        <a:pt x="190" y="56"/>
                      </a:lnTo>
                      <a:lnTo>
                        <a:pt x="205" y="24"/>
                      </a:lnTo>
                      <a:lnTo>
                        <a:pt x="147" y="0"/>
                      </a:lnTo>
                      <a:lnTo>
                        <a:pt x="96" y="17"/>
                      </a:lnTo>
                      <a:lnTo>
                        <a:pt x="51" y="41"/>
                      </a:lnTo>
                      <a:lnTo>
                        <a:pt x="24" y="73"/>
                      </a:lnTo>
                      <a:lnTo>
                        <a:pt x="0" y="124"/>
                      </a:lnTo>
                      <a:lnTo>
                        <a:pt x="0" y="179"/>
                      </a:lnTo>
                      <a:lnTo>
                        <a:pt x="17" y="228"/>
                      </a:lnTo>
                      <a:lnTo>
                        <a:pt x="51" y="245"/>
                      </a:lnTo>
                      <a:lnTo>
                        <a:pt x="147" y="294"/>
                      </a:lnTo>
                      <a:lnTo>
                        <a:pt x="239" y="337"/>
                      </a:lnTo>
                      <a:lnTo>
                        <a:pt x="299" y="388"/>
                      </a:lnTo>
                      <a:lnTo>
                        <a:pt x="405" y="463"/>
                      </a:lnTo>
                      <a:lnTo>
                        <a:pt x="501" y="559"/>
                      </a:lnTo>
                      <a:lnTo>
                        <a:pt x="604" y="647"/>
                      </a:lnTo>
                      <a:lnTo>
                        <a:pt x="700" y="723"/>
                      </a:lnTo>
                      <a:lnTo>
                        <a:pt x="811" y="796"/>
                      </a:lnTo>
                      <a:lnTo>
                        <a:pt x="949" y="896"/>
                      </a:lnTo>
                      <a:lnTo>
                        <a:pt x="1064" y="956"/>
                      </a:lnTo>
                      <a:lnTo>
                        <a:pt x="1156" y="1028"/>
                      </a:lnTo>
                      <a:lnTo>
                        <a:pt x="1393" y="1094"/>
                      </a:lnTo>
                      <a:lnTo>
                        <a:pt x="1387" y="1065"/>
                      </a:lnTo>
                      <a:lnTo>
                        <a:pt x="1304" y="967"/>
                      </a:lnTo>
                      <a:lnTo>
                        <a:pt x="1207" y="822"/>
                      </a:lnTo>
                      <a:lnTo>
                        <a:pt x="1173" y="817"/>
                      </a:lnTo>
                      <a:lnTo>
                        <a:pt x="1237" y="911"/>
                      </a:lnTo>
                      <a:lnTo>
                        <a:pt x="1314" y="1011"/>
                      </a:lnTo>
                      <a:lnTo>
                        <a:pt x="1288" y="1043"/>
                      </a:lnTo>
                      <a:lnTo>
                        <a:pt x="1190" y="1001"/>
                      </a:lnTo>
                      <a:lnTo>
                        <a:pt x="1190" y="952"/>
                      </a:lnTo>
                      <a:lnTo>
                        <a:pt x="1231" y="947"/>
                      </a:lnTo>
                      <a:lnTo>
                        <a:pt x="1222" y="928"/>
                      </a:lnTo>
                      <a:lnTo>
                        <a:pt x="1156" y="913"/>
                      </a:lnTo>
                      <a:lnTo>
                        <a:pt x="1154" y="9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094360" y="528480"/>
                  <a:ext cx="248760" cy="254880"/>
                </a:xfrm>
                <a:custGeom>
                  <a:avLst/>
                  <a:gdLst/>
                  <a:ahLst/>
                  <a:rect l="l" t="t" r="r" b="b"/>
                  <a:pathLst>
                    <a:path w="157" h="158">
                      <a:moveTo>
                        <a:pt x="138" y="0"/>
                      </a:moveTo>
                      <a:lnTo>
                        <a:pt x="115" y="69"/>
                      </a:lnTo>
                      <a:lnTo>
                        <a:pt x="51" y="120"/>
                      </a:lnTo>
                      <a:lnTo>
                        <a:pt x="0" y="133"/>
                      </a:lnTo>
                      <a:lnTo>
                        <a:pt x="40" y="158"/>
                      </a:lnTo>
                      <a:lnTo>
                        <a:pt x="108" y="124"/>
                      </a:lnTo>
                      <a:lnTo>
                        <a:pt x="157" y="66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 txBox="1"/>
            <p:nvPr/>
          </p:nvSpPr>
          <p:spPr>
            <a:xfrm rot="2052600">
              <a:off x="6781680" y="1981080"/>
              <a:ext cx="1076400" cy="69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ndalus"/>
                </a:rPr>
                <a:t>حقائق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  <a:ea typeface="Andalu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47680" y="4076640"/>
            <a:ext cx="6991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لا تدري أين تريد  فإن أي طريق سوف يوص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520" y="5334120"/>
            <a:ext cx="87631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تسير على خطة الأمس فإنك  في الغد سوف تصل إلى 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409680"/>
            <a:ext cx="4576680" cy="3176640"/>
            <a:chOff x="457200" y="409680"/>
            <a:chExt cx="4576680" cy="3176640"/>
          </a:xfrm>
        </p:grpSpPr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2724120" y="4096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" y="495360"/>
              <a:ext cx="3962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0000" spc="-1" strike="noStrike">
                  <a:solidFill>
                    <a:srgbClr val="000000"/>
                  </a:solidFill>
                  <a:latin typeface="Times New Roman"/>
                </a:rPr>
                <a:t>حقــ</a:t>
              </a:r>
              <a:r>
                <a:rPr b="1" lang="hi-IN" sz="8000" spc="-1" strike="noStrike">
                  <a:solidFill>
                    <a:srgbClr val="000000"/>
                  </a:solidFill>
                  <a:latin typeface="Times New Roman"/>
                </a:rPr>
                <a:t>ائ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778880" y="1260360"/>
            <a:ext cx="850320" cy="4687560"/>
            <a:chOff x="7778880" y="1260360"/>
            <a:chExt cx="850320" cy="4687560"/>
          </a:xfrm>
        </p:grpSpPr>
        <p:sp>
          <p:nvSpPr>
            <p:cNvPr id="206" name=""/>
            <p:cNvSpPr/>
            <p:nvPr/>
          </p:nvSpPr>
          <p:spPr>
            <a:xfrm>
              <a:off x="7778880" y="1260360"/>
              <a:ext cx="85032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6200000">
              <a:off x="6068520" y="3337200"/>
              <a:ext cx="426132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خارج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6280" y="1260360"/>
            <a:ext cx="921960" cy="4687560"/>
            <a:chOff x="476280" y="1260360"/>
            <a:chExt cx="921960" cy="4687560"/>
          </a:xfrm>
        </p:grpSpPr>
        <p:sp>
          <p:nvSpPr>
            <p:cNvPr id="209" name=""/>
            <p:cNvSpPr/>
            <p:nvPr/>
          </p:nvSpPr>
          <p:spPr>
            <a:xfrm>
              <a:off x="476280" y="1260360"/>
              <a:ext cx="92196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6200000">
              <a:off x="-1198440" y="3314520"/>
              <a:ext cx="4261320" cy="5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داخل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62040" y="1926720"/>
            <a:ext cx="4189680" cy="2924640"/>
            <a:chOff x="2462040" y="1926720"/>
            <a:chExt cx="4189680" cy="2924640"/>
          </a:xfrm>
        </p:grpSpPr>
        <p:sp>
          <p:nvSpPr>
            <p:cNvPr id="212" name=""/>
            <p:cNvSpPr/>
            <p:nvPr/>
          </p:nvSpPr>
          <p:spPr>
            <a:xfrm flipH="1">
              <a:off x="2462040" y="2176560"/>
              <a:ext cx="4189680" cy="2674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20143200">
              <a:off x="5676840" y="2058840"/>
              <a:ext cx="7272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20143200">
              <a:off x="2577600" y="404172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قوية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76440" y="1958400"/>
            <a:ext cx="4253040" cy="2811960"/>
            <a:chOff x="2476440" y="1958400"/>
            <a:chExt cx="4253040" cy="2811960"/>
          </a:xfrm>
        </p:grpSpPr>
        <p:sp>
          <p:nvSpPr>
            <p:cNvPr id="216" name=""/>
            <p:cNvSpPr/>
            <p:nvPr/>
          </p:nvSpPr>
          <p:spPr>
            <a:xfrm flipH="1" flipV="1">
              <a:off x="2476440" y="2257560"/>
              <a:ext cx="4130640" cy="251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530000">
              <a:off x="5952960" y="404136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530000">
              <a:off x="2637000" y="2095560"/>
              <a:ext cx="7268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جنب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80160" y="1558800"/>
            <a:ext cx="99216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فر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خطو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8440" y="155880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844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ضع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71760" y="609480"/>
            <a:ext cx="4162320" cy="951120"/>
            <a:chOff x="2471760" y="609480"/>
            <a:chExt cx="4162320" cy="951120"/>
          </a:xfrm>
        </p:grpSpPr>
        <p:sp>
          <p:nvSpPr>
            <p:cNvPr id="224" name=""/>
            <p:cNvSpPr/>
            <p:nvPr/>
          </p:nvSpPr>
          <p:spPr>
            <a:xfrm>
              <a:off x="2471760" y="156060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598920" y="609480"/>
              <a:ext cx="196380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اغتنام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71760" y="5450040"/>
            <a:ext cx="4162320" cy="798480"/>
            <a:chOff x="2471760" y="5450040"/>
            <a:chExt cx="4162320" cy="798480"/>
          </a:xfrm>
        </p:grpSpPr>
        <p:sp>
          <p:nvSpPr>
            <p:cNvPr id="227" name=""/>
            <p:cNvSpPr/>
            <p:nvPr/>
          </p:nvSpPr>
          <p:spPr>
            <a:xfrm>
              <a:off x="2471760" y="545004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86040" y="5549760"/>
              <a:ext cx="180036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تجاوز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24080" y="380880"/>
            <a:ext cx="3254400" cy="193680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47840" y="1219320"/>
            <a:ext cx="2075760" cy="2284200"/>
            <a:chOff x="5847840" y="1219320"/>
            <a:chExt cx="2075760" cy="2284200"/>
          </a:xfrm>
        </p:grpSpPr>
        <p:grpSp>
          <p:nvGrpSpPr>
            <p:cNvPr id="231" name=""/>
            <p:cNvGrpSpPr/>
            <p:nvPr/>
          </p:nvGrpSpPr>
          <p:grpSpPr>
            <a:xfrm>
              <a:off x="5847840" y="1219320"/>
              <a:ext cx="2075760" cy="2284200"/>
              <a:chOff x="5847840" y="1219320"/>
              <a:chExt cx="2075760" cy="228420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5847840" y="1219320"/>
                <a:ext cx="568440" cy="79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217920" y="1331280"/>
                <a:ext cx="1705680" cy="2172240"/>
                <a:chOff x="6217920" y="1331280"/>
                <a:chExt cx="1705680" cy="2172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542280" y="2295000"/>
                  <a:ext cx="213120" cy="1778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7600" y="1331280"/>
                  <a:ext cx="495360" cy="4921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1804320"/>
                  <a:ext cx="1670400" cy="1699200"/>
                </a:xfrm>
                <a:custGeom>
                  <a:avLst/>
                  <a:gdLst/>
                  <a:ahLst/>
                  <a:rect l="l" t="t" r="r" b="b"/>
                  <a:pathLst>
                    <a:path w="705" h="714">
                      <a:moveTo>
                        <a:pt x="497" y="26"/>
                      </a:moveTo>
                      <a:lnTo>
                        <a:pt x="538" y="26"/>
                      </a:lnTo>
                      <a:lnTo>
                        <a:pt x="592" y="56"/>
                      </a:lnTo>
                      <a:lnTo>
                        <a:pt x="705" y="222"/>
                      </a:lnTo>
                      <a:lnTo>
                        <a:pt x="701" y="296"/>
                      </a:lnTo>
                      <a:lnTo>
                        <a:pt x="624" y="353"/>
                      </a:lnTo>
                      <a:lnTo>
                        <a:pt x="561" y="396"/>
                      </a:lnTo>
                      <a:lnTo>
                        <a:pt x="482" y="301"/>
                      </a:lnTo>
                      <a:lnTo>
                        <a:pt x="513" y="275"/>
                      </a:lnTo>
                      <a:lnTo>
                        <a:pt x="538" y="255"/>
                      </a:lnTo>
                      <a:lnTo>
                        <a:pt x="485" y="172"/>
                      </a:lnTo>
                      <a:lnTo>
                        <a:pt x="333" y="275"/>
                      </a:lnTo>
                      <a:lnTo>
                        <a:pt x="481" y="477"/>
                      </a:lnTo>
                      <a:lnTo>
                        <a:pt x="606" y="384"/>
                      </a:lnTo>
                      <a:lnTo>
                        <a:pt x="605" y="714"/>
                      </a:lnTo>
                      <a:lnTo>
                        <a:pt x="287" y="714"/>
                      </a:lnTo>
                      <a:lnTo>
                        <a:pt x="286" y="219"/>
                      </a:lnTo>
                      <a:lnTo>
                        <a:pt x="213" y="266"/>
                      </a:lnTo>
                      <a:lnTo>
                        <a:pt x="148" y="266"/>
                      </a:lnTo>
                      <a:lnTo>
                        <a:pt x="141" y="257"/>
                      </a:lnTo>
                      <a:lnTo>
                        <a:pt x="93" y="190"/>
                      </a:lnTo>
                      <a:lnTo>
                        <a:pt x="0" y="71"/>
                      </a:lnTo>
                      <a:lnTo>
                        <a:pt x="105" y="0"/>
                      </a:lnTo>
                      <a:lnTo>
                        <a:pt x="171" y="88"/>
                      </a:lnTo>
                      <a:lnTo>
                        <a:pt x="189" y="107"/>
                      </a:lnTo>
                      <a:lnTo>
                        <a:pt x="322" y="26"/>
                      </a:lnTo>
                      <a:lnTo>
                        <a:pt x="377" y="26"/>
                      </a:lnTo>
                      <a:lnTo>
                        <a:pt x="497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9480" y="2299320"/>
                  <a:ext cx="204120" cy="235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5400" y="1755360"/>
                  <a:ext cx="286200" cy="22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67"/>
                      </a:moveTo>
                      <a:arcTo wR="10800" hR="10800" stAng="-74202" swAng="109459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67"/>
                      </a:moveTo>
                      <a:arcTo wR="10800" hR="10800" stAng="-74202" swAng="10945972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350840" y="1866960"/>
              <a:ext cx="283680" cy="22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85" y="3242"/>
                  </a:moveTo>
                  <a:arcTo wR="10800" hR="10800" stAng="-8135227" swAng="10676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3085" y="3242"/>
                  </a:moveTo>
                  <a:arcTo wR="10800" hR="10800" stAng="-8135227" swAng="10676841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90720" y="2438280"/>
            <a:ext cx="7619760" cy="4114800"/>
          </a:xfrm>
          <a:custGeom>
            <a:avLst/>
            <a:gdLst/>
            <a:ahLst/>
            <a:rect l="l" t="t" r="r" b="b"/>
            <a:pathLst>
              <a:path w="2524" h="740">
                <a:moveTo>
                  <a:pt x="0" y="740"/>
                </a:moveTo>
                <a:lnTo>
                  <a:pt x="900" y="0"/>
                </a:lnTo>
                <a:lnTo>
                  <a:pt x="1587" y="0"/>
                </a:lnTo>
                <a:lnTo>
                  <a:pt x="2524" y="740"/>
                </a:lnTo>
                <a:lnTo>
                  <a:pt x="0" y="74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2590920"/>
            <a:ext cx="2247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سمع فأنسى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3581280"/>
            <a:ext cx="28288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رى فأتذكر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19520" y="4876920"/>
            <a:ext cx="35622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مارس فأفهم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4" name=""/>
          <p:cNvSpPr txBox="1"/>
          <p:nvPr/>
        </p:nvSpPr>
        <p:spPr>
          <a:xfrm rot="18296400">
            <a:off x="885600" y="3381120"/>
            <a:ext cx="2248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تذكر أنني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032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أحسن وسيلة لاكتســاب المهارات هي المشاهدة والممارس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1514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114800" y="6094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لذلك تحتاج للآتي: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765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1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مهارة التي تريد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266688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2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خطوات العملية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36576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3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رؤية مثال واقعي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46483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4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ممارسة خطواتها العم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57150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5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حصول على التغذية الراجع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124080"/>
            <a:ext cx="295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6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مارسة الفع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3962520"/>
            <a:ext cx="295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7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تابعة والاستمرار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الإدارة العامة للتعليم بجازان</cp:lastModifiedBy>
  <cp:lastPrinted>2000-06-20T12:33:24Z</cp:lastPrinted>
  <dcterms:modified xsi:type="dcterms:W3CDTF">2000-06-20T12:35:06Z</dcterms:modified>
  <cp:revision>37</cp:revision>
  <dc:subject/>
  <dc:title>لا يوجد عنوان للشريحة</dc:title>
</cp:coreProperties>
</file>